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510E-BADE-4086-B0B8-CC747CA3A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7D6C-C1BA-4782-B451-3ECDCAF7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33E4-62A0-43EC-8616-2BF60B8FD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1C64-E5C7-411E-BB69-DA4447B58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7B29-C936-4BD3-ABF9-9737B792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A8F2-FA3A-460E-8EB1-64407EE9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AF5A-0423-4902-83B8-18A198D7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F2E3-97F6-4FAD-AACA-66010445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A7F0-C93B-4BFA-9A55-0D9C7A4B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7DDB-CD24-441C-AA66-E7EB5963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FE97-5F3D-4DC3-B277-49A34217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1F69-E416-402B-BAEC-2E269163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F804-8ACB-4AFB-B710-3B9F995DD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4120" y="2435400"/>
            <a:ext cx="8291520" cy="250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О, вижте тази любов ,</a:t>
            </a:r>
            <a:endParaRPr b="0" lang="en-US" sz="48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която Отец ни е дарил. /2/</a:t>
            </a:r>
            <a:endParaRPr b="0" lang="en-US" sz="48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6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26000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68360" y="907920"/>
            <a:ext cx="77914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135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Да се наречем Божии чада /2</a:t>
            </a:r>
            <a:endParaRPr b="0" lang="en-US" sz="4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135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135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16000"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84120" y="2435400"/>
            <a:ext cx="8291520" cy="250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О, вижте тази любов ,</a:t>
            </a:r>
            <a:endParaRPr b="0" lang="en-US" sz="48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която Отец ни е дарил. /2/</a:t>
            </a:r>
            <a:endParaRPr b="0" lang="en-US" sz="48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17000"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68360" y="907920"/>
            <a:ext cx="77914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135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Да се наречем Божии чада /2</a:t>
            </a:r>
            <a:endParaRPr b="0" lang="en-US" sz="4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135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135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17000"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84120" y="2435400"/>
            <a:ext cx="8291520" cy="250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О, вижте тази любов ,</a:t>
            </a:r>
            <a:endParaRPr b="0" lang="en-US" sz="48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която Отец ни е дарил. /2/</a:t>
            </a:r>
            <a:endParaRPr b="0" lang="en-US" sz="48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23000"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20:47:19Z</dcterms:created>
  <dc:creator>TrifonTrifonow</dc:creator>
  <dc:description/>
  <dc:language>en-US</dc:language>
  <cp:lastModifiedBy>TrifonTrifonow</cp:lastModifiedBy>
  <dcterms:modified xsi:type="dcterms:W3CDTF">2005-12-15T20:47:46Z</dcterms:modified>
  <cp:revision>1</cp:revision>
  <dc:subject/>
  <dc:title>Slide 1</dc:title>
</cp:coreProperties>
</file>